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475714A3-3186-4B56-9345-F985E83FB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AAA3969-921A-43AE-8498-D8F1097AF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CCD11F6-049E-4C6D-B1C1-685F3A1A45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F135E63-9C49-41E2-8AE8-730BC9F913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93421BC-4983-43A6-8408-22EFBDD49B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77A16CC-F293-4E3B-BBD7-21D2FB8673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9E6D3CE-FA31-4A28-8625-E52175C2AB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F95E422-8D80-4AA3-BD3B-B880A066E8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538010A-7601-448F-AE1B-33DEE09A92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9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04C6927A-E4CB-4026-B7A3-254708693F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0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8D1C7BDE-F1B1-4B83-A3A1-76291E728E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4D3FD1-9577-4DA6-84FE-FEB88648250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0058B3B-1340-4707-B8FD-F2EA3DA954F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965E71-3BCC-45DB-BD17-D5F075AC73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96122B2-8ED0-43DB-8D98-6F95B7D492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1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228116-AB52-4C9C-BBA4-A6C36E784E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E61FEC-1F85-42A6-AB50-FFB1624030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D86DF8-99B6-43C0-A31A-EC6EB7CD51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4FC647-BC72-4427-9772-A51A192918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2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953D6D-A311-43E4-90E6-9A676A1937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1C3FE4-73B0-4490-883A-379DA1EB45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073E88-6BFB-4AF9-A454-6087AD00A1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3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A9EEAA-0D8C-4334-A8AC-0DF5CF5EF57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3517C6B-0DDB-43C3-B6D5-67A7BC44050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44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F680C9-057D-463C-8D53-6E111042E84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BD86B14-0F1C-4231-BBA4-7A2059B5A3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F67FF7-0B82-4786-A251-B424C4723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4AE3B77-83AE-42A8-9E4A-D9ECD3CE4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ABDA28C-4D49-45CD-9861-CA8748A77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B8DC6B-95F4-418E-94B1-CA08C1B14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95284F-2881-4A51-9CFB-BE089B38A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2ECFA9-F49D-48D4-94A8-965D6011B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DF1EB55-DE7A-4854-9E5F-753CEFA70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3D36D4-418F-4BA6-806F-3CEB3E129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9B5052-C9A9-4589-954D-388AD6890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E3F38F-16DF-4BD2-85C8-5482150FB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AD055D2-70D5-42F3-A1D5-DF59489A0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CD1D255-B167-4AF9-BB12-644722A16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C08AC5-0A33-40E5-AF19-E8611B2601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955012-9E6A-47E8-BF73-9ACB10E914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973FD5-A960-485C-B884-7055F3DDD1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ADB87-5396-4962-B5C0-4E27F9E67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C7603A-B678-4029-B564-3DCA84DCB5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ED1D9B3-4492-4321-8BBD-60FD66037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56519C-BD6D-438A-BE78-1A5C720EBF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885F4-06D1-438E-8FB9-E16B70ECC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C77FE-D1BA-470D-BB39-FDFE7571B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8DBF8-5D18-4B22-9107-6EF5A6F1C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D4B21-EB8F-490C-B8B9-99367B949B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0148DD-4938-422D-B8F4-CFFC241F00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ED184A-F6A2-47CB-9BBC-D4766D2725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A7D1267-DB0D-40E2-95B0-403B6B6A23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4B80A9-E1B1-47B5-9290-2D0189AFC0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6787EA2-0A03-4235-BF6D-668243417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DE4DB5A-A61B-4001-80B1-8F0913AE65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7C166BA-F802-4EFD-ACFB-1FD87ACA3F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F91B4C1-7D9B-4429-9B73-2FDC0735F4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D3A0FD-C71D-4F4A-968C-79FC98F375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F51A45-B93D-45AD-BEB2-55F9EE6345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C8777B-5031-4DAA-8872-6FF22AA34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79EC34A-951B-4B2B-BB74-D4A584360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B986631-AB20-4FBA-BDF6-DB19BA06A4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0BF5D27-2209-420B-865F-FF153D7B09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7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8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413AD3D-926E-4343-9ACF-2BF27CC978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158ED8-E95C-4E65-9A02-FB3977ED55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5DE31F2-DC3A-4380-9F06-D34AFCEE6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67B17A-722D-432F-B5AC-6C180C76D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AE1CBB-B64B-4CD6-974E-42004B58A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8CAF9-8961-4014-B4BF-F7BA74135F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8036EF-25D3-4531-8E49-88517D3F65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C3C49F-9F89-4E44-9BC3-438C681DDB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CE64ED-E445-492E-85FE-1EF899572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3BA45A-5D78-4252-AC0C-F2A6944078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D0645-ECD1-4C34-803B-517B6B8C9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3C45EC-6141-47A0-908C-10508C698E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BD7A47-4775-43A1-83DF-FAD8525B26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E9F8EA2-C508-419C-B0BE-D10E04C03D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9F6FCC-E706-4778-A8FF-D4795B539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C5F0BD-C271-4EE3-96FA-3D2A4862F8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684B33-BA82-4F2D-9255-AEC675B833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4D5142-00F0-4594-9CA2-1BD973907F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530D0F-A7CC-490E-9ADE-F5C39F03E9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3969C0-871B-4CE5-AE6B-8FC6DA0458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93CDC5-C4BF-4ACE-995D-486540781C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2F33A-CB84-4522-BC43-B8BCE70E81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E99A7C-F2A7-49DD-9AA3-A3B4D15290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BC051-0DD3-4760-A830-4581872146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93FB006-D84F-428B-8DCC-A42ED1B29A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E86B2A-E079-4E8A-BEE1-7F9225FEF3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4A2D83-E9C1-4765-A88C-5D3A355071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0E59C4-F2C4-4472-8D64-E956365D24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4EF16C-E1E7-46D5-BBCA-1C4EB07E39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F4C8BA-3177-47E0-95BF-AA34A6507E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0D4C53-CCD4-4E3E-889C-8F0C63B90C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9434C9-E337-4CD1-A109-C03B8C33E3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6464D3-2D95-4C41-9BC3-031802C3E9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FC6243-E3FD-449F-A386-1DCC1B3BD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BBEC5D-7CBD-42B2-90CF-7ECE9489F5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5E5630F-5849-47FE-BD7D-C5A9435350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54469A-7D84-45FD-93F6-DD60E22C92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CBD01F-62A6-4E85-A543-9012C0FBF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3104B9-3CCF-4683-9AE1-ECF4A26F34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F2F504-4C67-41A5-A48E-E6B753D79E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22EC13-4FCC-4A42-A4BB-BAB446D750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5089B32-514A-4D94-9B10-B4CF73778E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9D57FAE-6FD3-4F2D-9A24-A40D400DC8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A92A903-61E4-4CEE-92BE-80A12C1EE5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149B5F5-41CF-4E2C-8922-484E4449FB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8001EC7-6C62-4E7E-BEA2-2EF39A8661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FCF1B30-3D78-41F7-8213-B9A32F29E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395A7C0-412C-4A2F-BCD0-B01291E103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7B557F6-D2D7-4109-8DF7-E7210C6732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865654F-A33F-47D0-ADD3-89CE524DE1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818BC19-EE61-4DF2-9D67-35D3AE2CB2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4291A50-26B1-402E-993F-052CB6D064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7ABEB50-FE33-414F-9D47-843B94D08A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5A6A5AA-4C59-47C4-B56B-F7352ECDBD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3B2DBF5-1D4F-4C76-800A-149DEF405D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1AF5598-C501-4804-A346-CECC50BA84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C14168F-6074-4333-8D6C-E7B82D9BBDA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2"/>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2421-017E-4021-B9C2-2D00B684246A}"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06" name="Round Diagonal Corner Rectangle 6"/>
          <p:cNvGrpSpPr/>
          <p:nvPr/>
        </p:nvGrpSpPr>
        <p:grpSpPr>
          <a:xfrm>
            <a:off x="152280" y="133200"/>
            <a:ext cx="8832960" cy="6591600"/>
            <a:chOff x="152280" y="133200"/>
            <a:chExt cx="8832960" cy="6591600"/>
          </a:xfrm>
        </p:grpSpPr>
        <p:pic>
          <p:nvPicPr>
            <p:cNvPr id="407" name="Round Diagonal Corner Rectangle 6" descr=""/>
            <p:cNvPicPr/>
            <p:nvPr/>
          </p:nvPicPr>
          <p:blipFill>
            <a:blip r:embed="rId2"/>
            <a:stretch/>
          </p:blipFill>
          <p:spPr>
            <a:xfrm>
              <a:off x="152280" y="133200"/>
              <a:ext cx="8832960" cy="6591600"/>
            </a:xfrm>
            <a:prstGeom prst="rect">
              <a:avLst/>
            </a:prstGeom>
            <a:ln w="0">
              <a:noFill/>
            </a:ln>
          </p:spPr>
        </p:pic>
        <p:sp>
          <p:nvSpPr>
            <p:cNvPr id="40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4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1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11" name="PlaceHolder 3"/>
          <p:cNvSpPr>
            <a:spLocks noGrp="1"/>
          </p:cNvSpPr>
          <p:nvPr>
            <p:ph type="dt" idx="28"/>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12" name="PlaceHolder 4"/>
          <p:cNvSpPr>
            <a:spLocks noGrp="1"/>
          </p:cNvSpPr>
          <p:nvPr>
            <p:ph type="ftr" idx="29"/>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413" name="PlaceHolder 5"/>
          <p:cNvSpPr>
            <a:spLocks noGrp="1"/>
          </p:cNvSpPr>
          <p:nvPr>
            <p:ph type="sldNum" idx="30"/>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96C8-0A08-4DF0-BB93-36C6F95682A6}"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4" name="Round Diagonal Corner Rectangle 6"/>
          <p:cNvGrpSpPr/>
          <p:nvPr/>
        </p:nvGrpSpPr>
        <p:grpSpPr>
          <a:xfrm>
            <a:off x="152280" y="133200"/>
            <a:ext cx="8832960" cy="6591600"/>
            <a:chOff x="152280" y="133200"/>
            <a:chExt cx="8832960" cy="6591600"/>
          </a:xfrm>
        </p:grpSpPr>
        <p:pic>
          <p:nvPicPr>
            <p:cNvPr id="45" name="Round Diagonal Corner Rectangle 6" descr=""/>
            <p:cNvPicPr/>
            <p:nvPr/>
          </p:nvPicPr>
          <p:blipFill>
            <a:blip r:embed="rId2"/>
            <a:stretch/>
          </p:blipFill>
          <p:spPr>
            <a:xfrm>
              <a:off x="152280" y="133200"/>
              <a:ext cx="8832960" cy="6591600"/>
            </a:xfrm>
            <a:prstGeom prst="rect">
              <a:avLst/>
            </a:prstGeom>
            <a:ln w="0">
              <a:noFill/>
            </a:ln>
          </p:spPr>
        </p:pic>
        <p:sp>
          <p:nvSpPr>
            <p:cNvPr id="46"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grpSp>
        <p:nvGrpSpPr>
          <p:cNvPr id="47" name="Round Diagonal Corner Rectangle 7"/>
          <p:cNvGrpSpPr/>
          <p:nvPr/>
        </p:nvGrpSpPr>
        <p:grpSpPr>
          <a:xfrm>
            <a:off x="152280" y="133200"/>
            <a:ext cx="8839440" cy="2530800"/>
            <a:chOff x="152280" y="133200"/>
            <a:chExt cx="8839440" cy="2530800"/>
          </a:xfrm>
        </p:grpSpPr>
        <p:pic>
          <p:nvPicPr>
            <p:cNvPr id="48" name="Round Diagonal Corner Rectangle 7" descr=""/>
            <p:cNvPicPr/>
            <p:nvPr/>
          </p:nvPicPr>
          <p:blipFill>
            <a:blip r:embed="rId3"/>
            <a:stretch/>
          </p:blipFill>
          <p:spPr>
            <a:xfrm>
              <a:off x="152280" y="133200"/>
              <a:ext cx="8839440" cy="2530800"/>
            </a:xfrm>
            <a:prstGeom prst="rect">
              <a:avLst/>
            </a:prstGeom>
            <a:ln w="0">
              <a:noFill/>
            </a:ln>
          </p:spPr>
        </p:pic>
        <p:sp>
          <p:nvSpPr>
            <p:cNvPr id="49"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5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5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52"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53"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CB25-84D5-4F76-AC6A-0C06A0ED44E8}"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
        <p:nvSpPr>
          <p:cNvPr id="54"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Round Diagonal Corner Rectangle 6"/>
          <p:cNvGrpSpPr/>
          <p:nvPr/>
        </p:nvGrpSpPr>
        <p:grpSpPr>
          <a:xfrm>
            <a:off x="152280" y="133200"/>
            <a:ext cx="8832960" cy="6591600"/>
            <a:chOff x="152280" y="133200"/>
            <a:chExt cx="8832960" cy="6591600"/>
          </a:xfrm>
        </p:grpSpPr>
        <p:pic>
          <p:nvPicPr>
            <p:cNvPr id="92" name="Round Diagonal Corner Rectangle 6" descr=""/>
            <p:cNvPicPr/>
            <p:nvPr/>
          </p:nvPicPr>
          <p:blipFill>
            <a:blip r:embed="rId2"/>
            <a:stretch/>
          </p:blipFill>
          <p:spPr>
            <a:xfrm>
              <a:off x="152280" y="133200"/>
              <a:ext cx="8832960" cy="6591600"/>
            </a:xfrm>
            <a:prstGeom prst="rect">
              <a:avLst/>
            </a:prstGeom>
            <a:ln w="0">
              <a:noFill/>
            </a:ln>
          </p:spPr>
        </p:pic>
        <p:sp>
          <p:nvSpPr>
            <p:cNvPr id="9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94"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7"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98"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99"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6667-FECE-4D8A-A050-34929B602207}"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6" name="Round Diagonal Corner Rectangle 6"/>
          <p:cNvGrpSpPr/>
          <p:nvPr/>
        </p:nvGrpSpPr>
        <p:grpSpPr>
          <a:xfrm>
            <a:off x="152280" y="133200"/>
            <a:ext cx="8832960" cy="6591600"/>
            <a:chOff x="152280" y="133200"/>
            <a:chExt cx="8832960" cy="6591600"/>
          </a:xfrm>
        </p:grpSpPr>
        <p:pic>
          <p:nvPicPr>
            <p:cNvPr id="137" name="Round Diagonal Corner Rectangle 6" descr=""/>
            <p:cNvPicPr/>
            <p:nvPr/>
          </p:nvPicPr>
          <p:blipFill>
            <a:blip r:embed="rId2"/>
            <a:stretch/>
          </p:blipFill>
          <p:spPr>
            <a:xfrm>
              <a:off x="152280" y="133200"/>
              <a:ext cx="8832960" cy="6591600"/>
            </a:xfrm>
            <a:prstGeom prst="rect">
              <a:avLst/>
            </a:prstGeom>
            <a:ln w="0">
              <a:noFill/>
            </a:ln>
          </p:spPr>
        </p:pic>
        <p:sp>
          <p:nvSpPr>
            <p:cNvPr id="13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39"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4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4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42"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143"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7FDD-DB6E-4672-8F55-E1981BB89CFC}"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
        <p:nvSpPr>
          <p:cNvPr id="144"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81" name="Round Diagonal Corner Rectangle 6"/>
          <p:cNvGrpSpPr/>
          <p:nvPr/>
        </p:nvGrpSpPr>
        <p:grpSpPr>
          <a:xfrm>
            <a:off x="152280" y="133200"/>
            <a:ext cx="8832960" cy="6591600"/>
            <a:chOff x="152280" y="133200"/>
            <a:chExt cx="8832960" cy="6591600"/>
          </a:xfrm>
        </p:grpSpPr>
        <p:pic>
          <p:nvPicPr>
            <p:cNvPr id="182" name="Round Diagonal Corner Rectangle 6" descr=""/>
            <p:cNvPicPr/>
            <p:nvPr/>
          </p:nvPicPr>
          <p:blipFill>
            <a:blip r:embed="rId2"/>
            <a:stretch/>
          </p:blipFill>
          <p:spPr>
            <a:xfrm>
              <a:off x="152280" y="133200"/>
              <a:ext cx="8832960" cy="6591600"/>
            </a:xfrm>
            <a:prstGeom prst="rect">
              <a:avLst/>
            </a:prstGeom>
            <a:ln w="0">
              <a:noFill/>
            </a:ln>
          </p:spPr>
        </p:pic>
        <p:sp>
          <p:nvSpPr>
            <p:cNvPr id="183"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184"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7"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188"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189"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4600-89FF-457D-866E-ECF7D5595BD6}"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6" name="Round Diagonal Corner Rectangle 6"/>
          <p:cNvGrpSpPr/>
          <p:nvPr/>
        </p:nvGrpSpPr>
        <p:grpSpPr>
          <a:xfrm>
            <a:off x="152280" y="133200"/>
            <a:ext cx="8832960" cy="6591600"/>
            <a:chOff x="152280" y="133200"/>
            <a:chExt cx="8832960" cy="6591600"/>
          </a:xfrm>
        </p:grpSpPr>
        <p:pic>
          <p:nvPicPr>
            <p:cNvPr id="227" name="Round Diagonal Corner Rectangle 6" descr=""/>
            <p:cNvPicPr/>
            <p:nvPr/>
          </p:nvPicPr>
          <p:blipFill>
            <a:blip r:embed="rId2"/>
            <a:stretch/>
          </p:blipFill>
          <p:spPr>
            <a:xfrm>
              <a:off x="152280" y="133200"/>
              <a:ext cx="8832960" cy="6591600"/>
            </a:xfrm>
            <a:prstGeom prst="rect">
              <a:avLst/>
            </a:prstGeom>
            <a:ln w="0">
              <a:noFill/>
            </a:ln>
          </p:spPr>
        </p:pic>
        <p:sp>
          <p:nvSpPr>
            <p:cNvPr id="22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29"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30"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3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3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33"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234"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35"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5280-8131-4189-BC3C-F793B2036FC9}"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2" name="Round Diagonal Corner Rectangle 6"/>
          <p:cNvGrpSpPr/>
          <p:nvPr/>
        </p:nvGrpSpPr>
        <p:grpSpPr>
          <a:xfrm>
            <a:off x="152280" y="133200"/>
            <a:ext cx="8832960" cy="6591600"/>
            <a:chOff x="152280" y="133200"/>
            <a:chExt cx="8832960" cy="6591600"/>
          </a:xfrm>
        </p:grpSpPr>
        <p:pic>
          <p:nvPicPr>
            <p:cNvPr id="273" name="Round Diagonal Corner Rectangle 6" descr=""/>
            <p:cNvPicPr/>
            <p:nvPr/>
          </p:nvPicPr>
          <p:blipFill>
            <a:blip r:embed="rId2"/>
            <a:stretch/>
          </p:blipFill>
          <p:spPr>
            <a:xfrm>
              <a:off x="152280" y="133200"/>
              <a:ext cx="8832960" cy="6591600"/>
            </a:xfrm>
            <a:prstGeom prst="rect">
              <a:avLst/>
            </a:prstGeom>
            <a:ln w="0">
              <a:noFill/>
            </a:ln>
          </p:spPr>
        </p:pic>
        <p:sp>
          <p:nvSpPr>
            <p:cNvPr id="27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275"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7"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8"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279"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280"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F8FD-077E-449C-B7C4-D6C8E4EE3A23}"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17" name="Round Diagonal Corner Rectangle 6"/>
          <p:cNvGrpSpPr/>
          <p:nvPr/>
        </p:nvGrpSpPr>
        <p:grpSpPr>
          <a:xfrm>
            <a:off x="152280" y="133200"/>
            <a:ext cx="8832960" cy="6591600"/>
            <a:chOff x="152280" y="133200"/>
            <a:chExt cx="8832960" cy="6591600"/>
          </a:xfrm>
        </p:grpSpPr>
        <p:pic>
          <p:nvPicPr>
            <p:cNvPr id="318" name="Round Diagonal Corner Rectangle 6" descr=""/>
            <p:cNvPicPr/>
            <p:nvPr/>
          </p:nvPicPr>
          <p:blipFill>
            <a:blip r:embed="rId2"/>
            <a:stretch/>
          </p:blipFill>
          <p:spPr>
            <a:xfrm>
              <a:off x="152280" y="133200"/>
              <a:ext cx="8832960" cy="6591600"/>
            </a:xfrm>
            <a:prstGeom prst="rect">
              <a:avLst/>
            </a:prstGeom>
            <a:ln w="0">
              <a:noFill/>
            </a:ln>
          </p:spPr>
        </p:pic>
        <p:sp>
          <p:nvSpPr>
            <p:cNvPr id="319"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20"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2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23"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324"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D7B5-EE65-4478-8316-2385D30761C4}"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
        <p:nvSpPr>
          <p:cNvPr id="325"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62" name="Round Diagonal Corner Rectangle 6"/>
          <p:cNvGrpSpPr/>
          <p:nvPr/>
        </p:nvGrpSpPr>
        <p:grpSpPr>
          <a:xfrm>
            <a:off x="152280" y="133200"/>
            <a:ext cx="8832960" cy="6591600"/>
            <a:chOff x="152280" y="133200"/>
            <a:chExt cx="8832960" cy="6591600"/>
          </a:xfrm>
        </p:grpSpPr>
        <p:pic>
          <p:nvPicPr>
            <p:cNvPr id="363" name="Round Diagonal Corner Rectangle 6" descr=""/>
            <p:cNvPicPr/>
            <p:nvPr/>
          </p:nvPicPr>
          <p:blipFill>
            <a:blip r:embed="rId2"/>
            <a:stretch/>
          </p:blipFill>
          <p:spPr>
            <a:xfrm>
              <a:off x="152280" y="133200"/>
              <a:ext cx="8832960" cy="6591600"/>
            </a:xfrm>
            <a:prstGeom prst="rect">
              <a:avLst/>
            </a:prstGeom>
            <a:ln w="0">
              <a:noFill/>
            </a:ln>
          </p:spPr>
        </p:pic>
        <p:sp>
          <p:nvSpPr>
            <p:cNvPr id="364"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grpSp>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6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67"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ffffff"/>
              </a:solidFill>
              <a:latin typeface="Times New Roman"/>
            </a:endParaRPr>
          </a:p>
        </p:txBody>
      </p:sp>
      <p:sp>
        <p:nvSpPr>
          <p:cNvPr id="368"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39D1-8D2E-45EA-A769-1CEB1D401814}" type="slidenum">
              <a:rPr b="0" lang="en-US" sz="1600" spc="-1" strike="noStrike">
                <a:solidFill>
                  <a:srgbClr val="dfe0d4"/>
                </a:solidFill>
                <a:latin typeface="Times New Roman"/>
              </a:rPr>
              <a:t>&lt;number&gt;</a:t>
            </a:fld>
            <a:endParaRPr b="0" lang="en-US" sz="1600" spc="-1" strike="noStrike">
              <a:solidFill>
                <a:srgbClr val="ffffff"/>
              </a:solidFill>
              <a:latin typeface="Times New Roman"/>
            </a:endParaRPr>
          </a:p>
        </p:txBody>
      </p:sp>
      <p:sp>
        <p:nvSpPr>
          <p:cNvPr id="369"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457200" y="378000"/>
            <a:ext cx="8577360" cy="2232000"/>
          </a:xfrm>
          <a:prstGeom prst="rect">
            <a:avLst/>
          </a:prstGeom>
          <a:ln w="0">
            <a:noFill/>
          </a:ln>
        </p:spPr>
      </p:pic>
      <p:sp>
        <p:nvSpPr>
          <p:cNvPr id="451" name="PlaceHolder 1"/>
          <p:cNvSpPr>
            <a:spLocks noGrp="1"/>
          </p:cNvSpPr>
          <p:nvPr>
            <p:ph type="subTitle"/>
          </p:nvPr>
        </p:nvSpPr>
        <p:spPr>
          <a:xfrm>
            <a:off x="2133360" y="2819520"/>
            <a:ext cx="6559560" cy="175248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ectangle 2" descr=""/>
          <p:cNvPicPr/>
          <p:nvPr/>
        </p:nvPicPr>
        <p:blipFill>
          <a:blip r:embed="rId1"/>
          <a:stretch/>
        </p:blipFill>
        <p:spPr>
          <a:xfrm>
            <a:off x="450720" y="158760"/>
            <a:ext cx="8541000" cy="1249200"/>
          </a:xfrm>
          <a:prstGeom prst="rect">
            <a:avLst/>
          </a:prstGeom>
          <a:ln w="0">
            <a:noFill/>
          </a:ln>
        </p:spPr>
      </p:pic>
      <p:sp>
        <p:nvSpPr>
          <p:cNvPr id="469"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ll complaints should be investigated, evaluated, and responded to</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f the Front Office Manager is unable to resolve the situation, it should be passed along to a more senior manager</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escalation of an issue can and often should go all the way to the general manager</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Rectangle 2" descr=""/>
          <p:cNvPicPr/>
          <p:nvPr/>
        </p:nvPicPr>
        <p:blipFill>
          <a:blip r:embed="rId1"/>
          <a:stretch/>
        </p:blipFill>
        <p:spPr>
          <a:xfrm>
            <a:off x="450720" y="249120"/>
            <a:ext cx="8541000" cy="1165320"/>
          </a:xfrm>
          <a:prstGeom prst="rect">
            <a:avLst/>
          </a:prstGeom>
          <a:ln w="0">
            <a:noFill/>
          </a:ln>
        </p:spPr>
      </p:pic>
      <p:sp>
        <p:nvSpPr>
          <p:cNvPr id="453"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Service received from employees is one part of the guest experience, and in addition, many physical aspects of the hotel must function well to ensure the guest receives the whole product</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t some point, one or both of these parts may break down</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esolving a conflict to a guest’s satisfaction can “turn” around an unhappy guest and make him/her a satisfied guest</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450720" y="249120"/>
            <a:ext cx="8444160" cy="1158840"/>
          </a:xfrm>
          <a:prstGeom prst="rect">
            <a:avLst/>
          </a:prstGeom>
          <a:ln w="0">
            <a:noFill/>
          </a:ln>
        </p:spPr>
      </p:pic>
      <p:sp>
        <p:nvSpPr>
          <p:cNvPr id="455"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esolution is best accomplished by adhering to the visual and verbal rules of guest servic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t is assumed that if the employee is fully trained, the following rules should be followed to meet or exceed a guest’s expectations</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Listen first</a:t>
            </a:r>
            <a:endParaRPr b="0" lang="en-US" sz="20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Summarize</a:t>
            </a:r>
            <a:endParaRPr b="0" lang="en-US" sz="20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ake no excuses</a:t>
            </a:r>
            <a:endParaRPr b="0" lang="en-US" sz="20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Resolve the problem</a:t>
            </a:r>
            <a:endParaRPr b="0" lang="en-US" sz="20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Document the conflict</a:t>
            </a:r>
            <a:endParaRPr b="0" lang="en-US" sz="2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50720" y="249120"/>
            <a:ext cx="8541000" cy="1165320"/>
          </a:xfrm>
          <a:prstGeom prst="rect">
            <a:avLst/>
          </a:prstGeom>
          <a:ln w="0">
            <a:noFill/>
          </a:ln>
        </p:spPr>
      </p:pic>
      <p:sp>
        <p:nvSpPr>
          <p:cNvPr id="45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raining, experience, personality and other things contribute to an individual employee’s ability to satisfy a guest</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Hotel management must support that effort</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One way management supports an employee’s ability to satisfy a guest is by integrating empowerment in all duties</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Rockwell"/>
              </a:rPr>
              <a:t>Empowerment</a:t>
            </a:r>
            <a:r>
              <a:rPr b="0" lang="en-US" sz="2400" spc="-1" strike="noStrike">
                <a:solidFill>
                  <a:srgbClr val="ffffff"/>
                </a:solidFill>
                <a:latin typeface="Rockwell"/>
              </a:rPr>
              <a:t> is defined as the ability and authority to satisfy guest complaints/requests within preset parameters</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Rectangle 2" descr=""/>
          <p:cNvPicPr/>
          <p:nvPr/>
        </p:nvPicPr>
        <p:blipFill>
          <a:blip r:embed="rId1"/>
          <a:stretch/>
        </p:blipFill>
        <p:spPr>
          <a:xfrm>
            <a:off x="450720" y="249120"/>
            <a:ext cx="8541000" cy="1165320"/>
          </a:xfrm>
          <a:prstGeom prst="rect">
            <a:avLst/>
          </a:prstGeom>
          <a:ln w="0">
            <a:noFill/>
          </a:ln>
        </p:spPr>
      </p:pic>
      <p:sp>
        <p:nvSpPr>
          <p:cNvPr id="459"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Employees learn to implement empowerment techniques in how they communicate and that certain phrases and words should be avoided</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re are other ways of communicating the same message (see next slide)</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566640" y="298440"/>
            <a:ext cx="8309160" cy="1238400"/>
          </a:xfrm>
          <a:prstGeom prst="rect">
            <a:avLst/>
          </a:prstGeom>
          <a:ln w="0">
            <a:noFill/>
          </a:ln>
        </p:spPr>
      </p:pic>
      <p:graphicFrame>
        <p:nvGraphicFramePr>
          <p:cNvPr id="461" name=""/>
          <p:cNvGraphicFramePr/>
          <p:nvPr/>
        </p:nvGraphicFramePr>
        <p:xfrm>
          <a:off x="566640" y="1916280"/>
          <a:ext cx="8001000" cy="4086000"/>
        </p:xfrm>
        <a:graphic>
          <a:graphicData uri="http://schemas.openxmlformats.org/drawingml/2006/table">
            <a:tbl>
              <a:tblPr/>
              <a:tblGrid>
                <a:gridCol w="4000680"/>
                <a:gridCol w="4000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Phrases to Avoid</a:t>
                      </a:r>
                      <a:endParaRPr b="0" lang="en-US" sz="20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Phrases to Use Instead</a:t>
                      </a:r>
                      <a:endParaRPr b="0" lang="en-US" sz="20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9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I don’t know.”</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That is a good question, let me find out for you.”</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We can’t do that.”</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Well, I haven’t encountered this before, let me research it and find a resolution that you are happy with.”</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You have to.” </a:t>
                      </a:r>
                      <a:r>
                        <a:rPr b="0" i="1" lang="en-US" sz="1600" spc="-1" strike="noStrike">
                          <a:solidFill>
                            <a:srgbClr val="ffffff"/>
                          </a:solidFill>
                          <a:latin typeface="Verdana"/>
                          <a:ea typeface="Arial"/>
                        </a:rPr>
                        <a:t>or </a:t>
                      </a:r>
                      <a:r>
                        <a:rPr b="0" lang="en-US" sz="1600" spc="-1" strike="noStrike">
                          <a:solidFill>
                            <a:srgbClr val="ffffff"/>
                          </a:solidFill>
                          <a:latin typeface="Verdana"/>
                          <a:ea typeface="Arial"/>
                        </a:rPr>
                        <a:t>“This is hotel policy”</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Next time, here is how you can avoid this situation.” </a:t>
                      </a:r>
                      <a:r>
                        <a:rPr b="0" i="1" lang="en-US" sz="1600" spc="-1" strike="noStrike">
                          <a:solidFill>
                            <a:srgbClr val="ffffff"/>
                          </a:solidFill>
                          <a:latin typeface="Verdana"/>
                          <a:ea typeface="Arial"/>
                        </a:rPr>
                        <a:t>or</a:t>
                      </a:r>
                      <a:r>
                        <a:rPr b="0" lang="en-US" sz="1600" spc="-1" strike="noStrike">
                          <a:solidFill>
                            <a:srgbClr val="ffffff"/>
                          </a:solidFill>
                          <a:latin typeface="Verdana"/>
                          <a:ea typeface="Arial"/>
                        </a:rPr>
                        <a:t> “I think the best way to handle this would be…”</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0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No.”</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We are not able to reduce your rate but I </a:t>
                      </a:r>
                      <a:r>
                        <a:rPr b="0" lang="en-US" sz="1600" spc="-1" strike="noStrike" u="sng">
                          <a:solidFill>
                            <a:srgbClr val="ffffff"/>
                          </a:solidFill>
                          <a:uFillTx/>
                          <a:latin typeface="Verdana"/>
                          <a:ea typeface="Arial"/>
                        </a:rPr>
                        <a:t>am</a:t>
                      </a:r>
                      <a:r>
                        <a:rPr b="0" lang="en-US" sz="1600" spc="-1" strike="noStrike">
                          <a:solidFill>
                            <a:srgbClr val="ffffff"/>
                          </a:solidFill>
                          <a:latin typeface="Verdana"/>
                          <a:ea typeface="Arial"/>
                        </a:rPr>
                        <a:t> able to upgrade your room”</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89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That’s not my job.”</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a:t>
                      </a:r>
                      <a:r>
                        <a:rPr b="0" lang="en-US" sz="1600" spc="-1" strike="noStrike">
                          <a:solidFill>
                            <a:srgbClr val="ffffff"/>
                          </a:solidFill>
                          <a:latin typeface="Verdana"/>
                          <a:ea typeface="Arial"/>
                        </a:rPr>
                        <a:t>The person who handles that is </a:t>
                      </a:r>
                      <a:r>
                        <a:rPr b="0" lang="en-US" sz="1600" spc="-1" strike="noStrike" u="sng">
                          <a:solidFill>
                            <a:srgbClr val="ffffff"/>
                          </a:solidFill>
                          <a:uFillTx/>
                          <a:latin typeface="Verdana"/>
                          <a:ea typeface="Arial"/>
                        </a:rPr>
                        <a:t>(name).</a:t>
                      </a:r>
                      <a:r>
                        <a:rPr b="0" lang="en-US" sz="1600" spc="-1" strike="noStrike">
                          <a:solidFill>
                            <a:srgbClr val="ffffff"/>
                          </a:solidFill>
                          <a:latin typeface="Verdana"/>
                          <a:ea typeface="Arial"/>
                        </a:rPr>
                        <a:t> Please let me get him/her.”</a:t>
                      </a:r>
                      <a:endParaRPr b="0" lang="en-US" sz="1600" spc="-1" strike="noStrike">
                        <a:solidFill>
                          <a:srgbClr val="ffffff"/>
                        </a:solidFill>
                        <a:latin typeface="Rockwel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0720" y="249120"/>
            <a:ext cx="8541000" cy="1165320"/>
          </a:xfrm>
          <a:prstGeom prst="rect">
            <a:avLst/>
          </a:prstGeom>
          <a:ln w="0">
            <a:noFill/>
          </a:ln>
        </p:spPr>
      </p:pic>
      <p:sp>
        <p:nvSpPr>
          <p:cNvPr id="463"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diversity of guests makes it vital that all hotel employees appreciate the differences in peopl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Most reputable hotels will put their employees through </a:t>
            </a:r>
            <a:r>
              <a:rPr b="1" lang="en-US" sz="2400" spc="-1" strike="noStrike">
                <a:solidFill>
                  <a:srgbClr val="ffffff"/>
                </a:solidFill>
                <a:latin typeface="Rockwell"/>
              </a:rPr>
              <a:t>diversity training, </a:t>
            </a:r>
            <a:r>
              <a:rPr b="0" lang="en-US" sz="2400" spc="-1" strike="noStrike">
                <a:solidFill>
                  <a:srgbClr val="ffffff"/>
                </a:solidFill>
                <a:latin typeface="Rockwell"/>
              </a:rPr>
              <a:t>which teaches employees that they mast understand and appreciate the differences in peopl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Helping the employees overcome stereotypes such as racism, sexism, ethnocentrism and others helps to create a comfortable environment</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Rectangle 2" descr=""/>
          <p:cNvPicPr/>
          <p:nvPr/>
        </p:nvPicPr>
        <p:blipFill>
          <a:blip r:embed="rId1"/>
          <a:stretch/>
        </p:blipFill>
        <p:spPr>
          <a:xfrm>
            <a:off x="450720" y="249120"/>
            <a:ext cx="8541000" cy="1165320"/>
          </a:xfrm>
          <a:prstGeom prst="rect">
            <a:avLst/>
          </a:prstGeom>
          <a:ln w="0">
            <a:noFill/>
          </a:ln>
        </p:spPr>
      </p:pic>
      <p:sp>
        <p:nvSpPr>
          <p:cNvPr id="465"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hotel by nature is a “home away from home” to international guests</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Using good customer service skills helps to put these visitors at ease</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Hotels should share a list of all multilingual staff with front office managers</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Where appropriate, extra collateral should be provided in the guest’s native tongue</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erbal communication will be difficult and nonverbal communication can be difficult due to cultural differences</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450720" y="249120"/>
            <a:ext cx="8444160" cy="1158840"/>
          </a:xfrm>
          <a:prstGeom prst="rect">
            <a:avLst/>
          </a:prstGeom>
          <a:ln w="0">
            <a:noFill/>
          </a:ln>
        </p:spPr>
      </p:pic>
      <p:sp>
        <p:nvSpPr>
          <p:cNvPr id="46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Managers should become involved in guest complaints only after an empowered desk agents attempted to resolve the issue first</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manager who involves themselves before the guest agent has a chance to resolve an issue defeats the purpose behind empowerment</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Some guests may simply prefer to address to a manager</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Managers must lead by example by showing that complaints are not a burden, but an opportunity to improve service</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2:48:31Z</dcterms:created>
  <dc:creator>robert</dc:creator>
  <dc:description/>
  <dc:language>en-US</dc:language>
  <cp:lastModifiedBy>robert</cp:lastModifiedBy>
  <dcterms:modified xsi:type="dcterms:W3CDTF">2011-04-12T03:00:52Z</dcterms:modified>
  <cp:revision>2</cp:revision>
  <dc:subject/>
  <dc:title>GUEST CONFLICT RESOLUTION</dc:title>
</cp:coreProperties>
</file>